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1B5-6E8A-485C-8BE1-E371629D7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67E-A994-4760-B7B7-E918693C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E353-1005-4609-9516-07970BA9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95F-16A1-42BE-92FC-696AC768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6AA9-449D-415A-8E97-E797C38A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3097-C6EB-475E-AAFA-1C70EC58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4A8C-F194-4A6A-B36C-E8218B52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32B8-8256-4979-806E-CC8A00DC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1A77-43BF-40B2-8091-29E3B63B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741F-9C12-4550-9513-154AA297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F134-338E-47F4-B8DF-11B72053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802-9AF8-4F80-9F55-38078586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BE85-1D69-4290-AD6B-373AC29F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6707-F23D-4371-A4B0-3C47383B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2D60-722C-4D76-80E0-9DCECBB1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225B5-B566-4B3F-A5A6-7221026E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7DDB-432A-4A8F-BE17-21591087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CC56-46E7-4FDC-AC9B-6F4C4867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14E-851A-471D-BD5D-D878650B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006-7FD5-4531-8DA1-70297AF7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D6E-6D39-4A79-9CFE-32557EFF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980-955F-49FB-ABCF-AFA31070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87E-33A5-4CC8-B963-7A118894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D12-BD7B-4071-87DC-67DCEBEF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2FF1-EFD2-4E35-AFD1-D4123BF52BA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3349-A5A6-4203-BE79-66C967FFA62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Our Favorite Books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d b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the title of the book 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ain idea of my book is _____________________________________________________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like this book because _______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tle of boo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n and insert a copy of the student’s picture 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 the title of the book he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main idea of my book is _____________________________________________________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like this book because ________________________________________________________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tle of boo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n and insert a copy of the student’s picture he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12:07:24Z</dcterms:created>
  <dc:creator>Stacy Aderholt</dc:creator>
  <dc:description/>
  <dc:language>en-US</dc:language>
  <cp:lastModifiedBy>Stacy Aderholt</cp:lastModifiedBy>
  <dcterms:modified xsi:type="dcterms:W3CDTF">2005-08-22T12:43:04Z</dcterms:modified>
  <cp:revision>1</cp:revision>
  <dc:subject/>
  <dc:title>Our Favorite Books  </dc:title>
</cp:coreProperties>
</file>